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84B4-F843-49E6-BFD2-5802608F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DFF-CA5C-4364-AC00-76E77833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AE2D-E302-4AFB-BC1C-C4FE9116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AEC6-E5C9-4120-A0C7-B6FCBC22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4A23-F79C-4C39-B507-A81C0FE2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D201-BDDE-49DA-B924-01739FBE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6A9E-76FE-4AD7-8E1F-36E1612A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784F-A594-4244-95F4-EDD09228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2D93-9E69-4C81-83DE-0AAB98E5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9F04-02EE-45E2-90AB-686E5DC3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E90D-7082-4C43-8448-47CF0E93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0AD5-C891-4A6C-A756-062A4AEC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F072-3542-4A6B-A949-4823790F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63EC-6A39-4704-9130-E8914719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1250-8207-4857-BE28-DBA2215D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DE9A-4F61-46C6-B10D-15B4848D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2A62-F838-49D0-ADB7-B9167A2A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FAFD7-D4CF-4A00-9795-999D5989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552B2-C824-4949-86BB-398F16E1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A9D13-F35A-4B0F-AC54-83A80BF2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FD51A-FD07-4483-B364-B32A50C7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761F4-175C-4A35-82D2-BB1D9252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260A-2F69-41B0-B155-944042EB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D0681-CC60-463C-87AF-D4958DFC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05DCB-3845-4B3E-8E93-7F32AB4E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EAB07-BC06-45D3-ADCC-6F03A737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B2276-358C-47AF-9C50-A4FE543D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E7F57-EB2A-415C-B963-8A0BE143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C34FE-DEF5-43BF-BE70-1447560F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71FB9-5DF2-4BEA-90C4-90CAEF31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5DB0-A18A-42AF-86DE-EFF79C70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8236-355E-47FA-B1EA-A96DC94D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FF4D-C23C-4998-974A-C19C3B98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2481-0AE5-4B21-9272-7E9C7E14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0E9D-AF51-4E52-A48D-E8F7C407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EE39-7E6B-4DDC-A257-74952642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F35C-8329-42D3-8859-D008B884A659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119D-F789-4FF6-A09F-67F2E35780F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0B4C-71FC-4CDC-A260-E744D842839E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08000" y="1557360"/>
            <a:ext cx="5328000" cy="2448000"/>
          </a:xfrm>
          <a:prstGeom prst="rect">
            <a:avLst/>
          </a:prstGeom>
        </p:spPr>
        <p:txBody>
          <a:bodyPr wrap="none" lIns="110160" rIns="110160" tIns="55080" bIns="55080" anchor="t" anchorCtr="1">
            <a:prstTxWarp prst="textPlain">
              <a:avLst>
                <a:gd name="adj" fmla="val 52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ogram cezhraničnej spolupráce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ďarská republika- Slovenská republika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007-2013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535400" y="4508640"/>
            <a:ext cx="6009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chválenie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. december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Identifikačné číslo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07CB163PO0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31960" y="5495760"/>
            <a:ext cx="195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g. Zsolt Törö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Bratislava, 28.0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9280" y="1197000"/>
            <a:ext cx="864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abezpečená finančná alokácia za prísne definovaných podmien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dborné pozadie, transfer know-how, 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Ne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, posilnenie nových/existujúcich partnerstiev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/posilnenie komunikácie na úrovni vertikálnej a horizontáln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realizácia „zdola“ (bottom-up) vychádzajúcich rozvojových zámerov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silnenie konkurencieschopnosti regiónov,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7800" y="35100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ínos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22200" y="981000"/>
          <a:ext cx="8353440" cy="5106960"/>
        </p:xfrm>
        <a:graphic>
          <a:graphicData uri="http://schemas.openxmlformats.org/drawingml/2006/table">
            <a:tbl>
              <a:tblPr/>
              <a:tblGrid>
                <a:gridCol w="2089080"/>
                <a:gridCol w="2089440"/>
                <a:gridCol w="2085840"/>
                <a:gridCol w="2089080"/>
              </a:tblGrid>
              <a:tr h="107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are CBC (Cross-border Co-operation) 2001-20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nd mal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susedstva HUSKUA 2004-20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cezhraničnej spolupráce HUSK 2007-2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čná aloká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372 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372 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8 522 875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5 548 000 EUR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 014 05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y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Zrkadlový, - Doplňujúc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exemplár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7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5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2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podporen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 program (HU0109): 9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 program (2002/000-604): 11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6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čakávania program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zhraničný dop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valá udržateľ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vnosť šanc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kritéri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cíp vedúceho partne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7094160" y="324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volúcia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119700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..... prebieha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3.výzva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na prekladanie projektov,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do 28.02.2011, 23.59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5280" y="3510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mentáln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15394" t="21474" r="13619" b="28986"/>
          <a:stretch/>
        </p:blipFill>
        <p:spPr>
          <a:xfrm>
            <a:off x="539640" y="1844640"/>
            <a:ext cx="770436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56360" y="35100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merujem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552680"/>
            <a:ext cx="885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..... k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.výzve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na prekladanie projekt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ý termín zverejnen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2.štvrťrok 2011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á alokác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cca.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8 M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lasti podpory: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 ?, predmetom rokovania SM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1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45 009 737,12 EUR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(246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6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2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64 635 978,32 EUR, (270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7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edp. finančná alokácia 3. výzvy (EUR)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10 500 000,00 (?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flipV="1" rot="10800000">
            <a:off x="5586480" y="1051560"/>
            <a:ext cx="324000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rioritné osy a oblasti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2565360"/>
            <a:ext cx="399924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1 </a:t>
            </a:r>
            <a:br>
              <a:rPr sz="1700"/>
            </a:b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Hospodárstvo a spoločnosť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41% (85 133 59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700"/>
            </a:br>
            <a:r>
              <a:rPr b="1" lang="pl-PL" sz="1700" spc="-1" strike="noStrike">
                <a:solidFill>
                  <a:srgbClr val="000000"/>
                </a:solidFill>
                <a:latin typeface="Arial"/>
              </a:rPr>
              <a:t>ŽP, ochrana prírody a dostupnos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53% (110 050 746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700"/>
            </a:b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Technická asist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6% (12 458 57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716000" y="1773360"/>
            <a:ext cx="6476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-27000"/>
            <a:ext cx="4629240" cy="6867360"/>
            <a:chOff x="0" y="-27000"/>
            <a:chExt cx="4629240" cy="6867360"/>
          </a:xfrm>
        </p:grpSpPr>
        <p:sp>
          <p:nvSpPr>
            <p:cNvPr id="139" name=""/>
            <p:cNvSpPr/>
            <p:nvPr/>
          </p:nvSpPr>
          <p:spPr>
            <a:xfrm>
              <a:off x="0" y="-27000"/>
              <a:ext cx="4629240" cy="6867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7680" y="161280"/>
              <a:ext cx="2296440" cy="7221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ogram cezhraničnej spoluprá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Maďarsko -Slovensk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2007 - 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14440" y="864360"/>
              <a:ext cx="0" cy="54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36480" y="1026720"/>
              <a:ext cx="16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48824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8888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4480" y="1135080"/>
              <a:ext cx="156744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Hospodárstvo a spoloč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1832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8680" y="1730160"/>
              <a:ext cx="0" cy="42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6440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210200" y="1730160"/>
              <a:ext cx="11520" cy="362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08480" y="1135080"/>
              <a:ext cx="156780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ŽP,</a:t>
              </a: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chrana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 dostup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4480" y="189252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upráce     v oblasti hospodárstva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480" y="254124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upráca v oblasti V&amp;V a inováci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08480" y="189252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             na podporu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08480" y="27579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8680" y="2216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8680" y="28652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64400" y="2270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97000" y="6326280"/>
              <a:ext cx="2236320" cy="3776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Technická asistenc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4480" y="319068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očného rozvoja turizm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4480" y="3785760"/>
              <a:ext cx="1555920" cy="640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ý rozvoj a koordinované využívanie zdravotníckych zariadení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4480" y="4542480"/>
              <a:ext cx="1555920" cy="48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5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Rozvoj sieťovania,partnerstva,  prog. &amp; proj. kapacít manažm.</a:t>
              </a: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480" y="513756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využívanie a rozvoj ľudských zdroj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4480" y="5786280"/>
              <a:ext cx="1555920" cy="388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ktivity Ľudia ľuď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8680" y="3459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8680" y="41637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8680" y="47588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8680" y="52999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8680" y="60022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08480" y="340668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Výstavba maloplošných komunikácií, cyklistických trás, verejná doprav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08480" y="4272120"/>
              <a:ext cx="1549440" cy="7081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abezpečenie lepších hraničných prechodov cez prihraničné rie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08480" y="51375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lepšenie komunikačných kanál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64400" y="3135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4400" y="383940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64400" y="45424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64400" y="53535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Szöveg helye 2"/>
          <p:cNvGraphicFramePr/>
          <p:nvPr/>
        </p:nvGraphicFramePr>
        <p:xfrm>
          <a:off x="2211480" y="115920"/>
          <a:ext cx="4592520" cy="6121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77" name="Szöveg hely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1480" y="115920"/>
                    <a:ext cx="459252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42920" y="1989000"/>
            <a:ext cx="889308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04000" y="765000"/>
            <a:ext cx="216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vostupňová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artnera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MPaRV S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372000" y="1125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3284640"/>
            <a:ext cx="21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ruhostupňová 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rojekt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STS Program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30+30 d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372000" y="3789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360" y="1076400"/>
            <a:ext cx="150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aždý part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 s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1440" y="338760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edúci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148428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3640" y="364500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56360" y="3510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kúsenosti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1268280"/>
            <a:ext cx="88567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MIS (podávanie ŽoNFP, monitorovacia správa na úrovni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ľúbené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menej obľúbené oblasti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pružné/nasilu vytvorené partnerstvá (počet partnerov, hodnotenie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implementác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ostatočná komunikácia (vertikálna, horizontál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sotatočné finančné zázemie (finančná kríz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únosné množstvo žiadostí o zmenu projektu (realokácia financií, zmena manažérov, predĺženie projektu,.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dstúpenie od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+3/2 parvid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ízka kvalita predložených monitorovacích sprá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adhotnotené indiká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ublicity guide (striktné predpisy),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9280" y="1844640"/>
            <a:ext cx="88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Ďakujem za pozornosť a v mene 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ám prajem veľa úspech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 implementáci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zabúdajte: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ak máte pochybnost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pýtajte sa!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y sme tu pre Vás a Vy ste tu pre nás </a:t>
            </a:r>
            <a:r>
              <a:rPr b="0" lang="sk-SK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9:42:45Z</dcterms:created>
  <dc:creator>thomas</dc:creator>
  <dc:description/>
  <dc:language>en-US</dc:language>
  <cp:lastModifiedBy>TorokZsolt</cp:lastModifiedBy>
  <dcterms:modified xsi:type="dcterms:W3CDTF">2011-02-25T11:03:08Z</dcterms:modified>
  <cp:revision>39</cp:revision>
  <dc:subject/>
  <dc:title>1. dia</dc:title>
</cp:coreProperties>
</file>